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02BD-6276-4FD5-9E09-F51353F17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9404-F7C0-4AD6-8C15-5C52E972D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53DD-7843-45E9-99FE-4B0AEB1CA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D799-753F-4F63-90C1-D5D39FD25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0663A-FEEA-45A9-B09B-2F959558B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A0CD2-B1C8-4EB9-829E-09D75E1D8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781BE-F369-4BE0-8205-509C89F91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17363-EEA0-429B-BC06-88A0B7168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6BA0E-AA96-414F-BC85-10E9AA3E3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B3005-F730-4912-BE11-6F5EE0E3A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9D2C5-92B6-47E2-88DA-5DC5B8B3B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8059-69B0-4252-8DBD-D1BD14F3B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277E6-37E2-45FE-A694-EBBE1622D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4C3F7-08E2-4007-A161-2E8058ADA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3EC8E-A8A5-4203-BC1C-88AB5E55D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4A58E-32DD-4C11-9118-07777E1DE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C842E-7B54-45A6-ACEE-2E3109791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A818-98F2-4CDE-92D3-4460014D6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D313-3F68-41A5-A562-BD0FD55DB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4881-EBB8-415F-9BDB-51A59F106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87A5-9FE8-4F27-8915-A2C2D916A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2DF2-945A-4A5A-B144-1C53A741B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2791-1A69-43B8-A8FD-30FE2E967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8D0B-5C2B-4CA7-91A4-5D8BBFC75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BA856-1AA2-424B-B34F-C687BAFA54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C4786-E7FB-4256-ABD5-87A3AD23F1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장 정서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-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행동장애아 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1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정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 시행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서장애에 자폐를 포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체 정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장애 아동협회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자폐시민협회의 자폐증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증과 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등에 대한 특수교육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원인 및 출현율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서와 행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각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0.55%, 0.15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생물학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손상과 뇌기능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가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3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분류체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열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으로 부적절하거나 미숙한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 위축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공격적인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국 정신의학회의 정신장애진단 및 통계편람</a:t>
            </a: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(DSM-IV)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전반적 발달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주의력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결핍 및 파괴적 행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유아기 또는 초기 아동기 급식 및 섭식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틱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배설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리불안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선택적 함묵증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애착장애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운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통계적 분류체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외부지향성 및 내부지향성 행동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4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 정서행동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적응행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업성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폐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극 과잉선택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낮은 동기유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기자극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강화와 결과에 대한 독특한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5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진단평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선별검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검목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checklist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투사검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접 관찰과 행동 측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 및 중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계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 행동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물 치료와 교육의 병행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 하세요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3" name="Picture 4" descr="MCj04042630000[1]"/>
          <p:cNvPicPr/>
          <p:nvPr/>
        </p:nvPicPr>
        <p:blipFill>
          <a:blip r:embed="rId1"/>
          <a:stretch/>
        </p:blipFill>
        <p:spPr>
          <a:xfrm>
            <a:off x="2627280" y="1844640"/>
            <a:ext cx="43927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15:10:29Z</dcterms:created>
  <dc:creator>.</dc:creator>
  <dc:description/>
  <dc:language>en-US</dc:language>
  <cp:lastModifiedBy>sec</cp:lastModifiedBy>
  <dcterms:modified xsi:type="dcterms:W3CDTF">2010-01-11T00:15:28Z</dcterms:modified>
  <cp:revision>8</cp:revision>
  <dc:subject/>
  <dc:title>제 6장 사회교과교육</dc:title>
</cp:coreProperties>
</file>